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2D5A-931D-49D2-B38D-5BEB4E9455A4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E091-C8E1-40FB-98DA-37E7B83AF256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9459-282F-4028-A62F-09ABDBC2899D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2D48-0130-4BF2-B4A5-E4AF6E07A4BE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F20D-BE45-458F-BAA8-F1A5A0B7FB77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3FB0-EFBD-4228-A0A2-E2AAA5EE0123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D27C-195B-44D1-B9DF-76FE0AA4E3CE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04A0-A47B-4A89-852A-D1DC9A33B344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F884-A3BB-4DB9-A1A0-E53CAB422851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4A40-0D82-4EBA-8080-5877BFFF330B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1728-CB67-40A4-A643-8C17E0308640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9546-D3A3-4D7E-9586-D49D64FFC274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7F47-3EA1-4F4C-B0C9-350A159FE936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C01B-4482-4A30-A964-186FC43A19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A57C-43AC-4781-80E1-5CFF6356D36D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12A9-FAC9-49AA-9A5F-36632B6D2598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A267-E70F-4504-A0C7-93A9404CEF81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DCA5-A14E-45D1-8AF2-C11815D882C4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B388-B2F8-4FDB-A577-59E8104C3DBD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2D4A-7CDD-4A2E-8106-4EBAC8287315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40B5-8837-4D6B-B087-07242335DD25}" type="slidenum"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DB4-5312-4F7B-B137-420BAF79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E07-4520-479B-BBC1-C11322CB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5727F-063B-43A0-B40F-B32AEC21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BB1AF-00E0-4360-A1E0-318DD524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90113-7F7B-44D1-BF69-EDE4E21E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74670-601D-42DC-AB39-B441BDFA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BF51B-A142-4C8E-B2DA-DD98983A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4BE56-24B8-4BBA-B0B0-292E6300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28A44-EC8C-4EF3-9991-BE2F2984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53A9B-539E-4397-B7B9-42641483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C910E-C9FB-4BB1-AF60-8A4784F1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8AD-EE2C-4419-AA98-C0504302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A60-DB2D-4151-A714-1163AFCF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4191-5D17-4690-91D6-D2B3FA77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404C-0F3B-4103-A3CD-3050D525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3329-FA69-4359-9A02-98FB3157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F9B0-0F33-4B7C-88C7-9A0C949F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155F-BFC4-4F5F-A2A5-55EA257A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FF0B-A35D-4183-8231-9570B306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D037-410D-4BC2-B297-AE6CFEB4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CC7-B428-457D-8749-2F527D3F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622C-E457-47EA-86C0-CCDCA1BC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198B-F5FE-4F20-A138-95661CF5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71EA-1B48-40AA-A051-25F87A15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4342-1EBD-462B-B00E-A4BD065C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7E53-D8E0-462F-AEFB-01929B32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73BFB-48BC-4E88-8CBE-2DE421F8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DEE1C-6F71-44F6-AD47-9A125D8C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F0667-C729-4FC3-BFF1-F3CD17FA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00694-4161-4A05-9901-65965325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67D23-B9D3-4373-B9D9-80C4A533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42C6-0B28-493D-925B-1AF75E09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A958-4D00-4315-B094-B9EB7199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25385-8A2D-4A5F-B23C-5DA24386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25C05-37E5-451D-9679-D87B16FE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C1F8B-2467-4D3A-BCD9-673177CD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9588A-C0A9-4DB1-84B8-19B9FF84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1F314-621E-439F-ADA7-D9A31736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CD054-8765-44D5-B231-DC14A0FB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C8ABA-C537-4EB9-A40D-500F8E14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94CE3-081F-4EDF-BCE1-1756E827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44856-C355-43DE-B076-31F02A3A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10AD-3DD2-40E0-A52D-1BC94D96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B0A11-6C1B-4B3F-A9E7-9D8922BC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74F55-DAF1-4ABB-AF57-24E6D1A0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282E3-73CF-4E81-B6C1-D1E2CD5F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096A9-1579-430D-8384-45BD6876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EF504-0B75-40B7-86CD-16F0DD71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C14E3-B119-40DA-BE6C-0AD54F40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56667-8C38-482A-A40D-07C42A78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9D4DC-92D8-4BE7-9F10-71ADEBBB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BA1FB-559A-4E8A-A1B4-10708C0F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A35BD-1082-43B5-9842-1F0083C6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8A0-71AD-4361-824A-4DB4F5C6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67012-53C3-406D-A7E0-E3227E85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D6947-85B5-47EA-8953-F9E8BBD6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B7B37-112D-46D2-A39F-2754A167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98C1C-9768-42AF-85E9-F74BD2C2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99F80-BEFA-4BD6-8C51-B890598A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3E103-F379-4FBB-86B8-2AAC5F74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C52E7-0D11-4DA3-A3D9-C55B5509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BD756-F7A2-4D37-AD16-F68F38AA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8360E-7728-4E5B-92DB-EBE36559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EFC8E-3E62-462A-810B-29BFA9AC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DA84-BD9D-4981-AA12-F6B5D487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4CB57-77C8-4412-917A-EC2F5443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4160D-6459-43D1-97E9-E5C9ACB9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550C3-F97B-4C5A-8314-0CB61BF7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F6BCC-355A-46C9-8219-17F071E1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CB78A-646C-459E-9D54-38F47BF2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4E7ED-AA3E-4129-BA6D-8FD8D2AD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1CB1B-3BDD-4275-A1C0-B0E1383F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5732A-2229-40D2-994B-926CFBA7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80223-B508-4179-B3C6-982F4949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CB9B8-5748-4E74-B6FF-0E48E9F9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9F48-DC7A-4198-A648-3E31AC0B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0F618-29F1-4948-A219-262CE6A4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BE5E9-6F71-42BF-8EA6-76EB29E2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5D9AD-494C-4A8A-B325-29BECBB2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DB670-F176-4533-AC06-DD86F573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95816-0309-46F1-B51E-133189FC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3B21D-27B1-4A5C-A761-789CBB39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6D6BC-A130-410A-B5BE-DD889C27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0A2C6-DCF6-4087-AAE3-142A0ABB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0ED49-1091-4AC8-B306-C452C486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D8073-D4E9-48DD-9E4B-4AA9E884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BAAD-9EFE-4926-AA52-DED1B5BC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9BD20-CA2F-4046-82FE-E1771A11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50E2A-8C53-4FF9-9E42-76267599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32EA3-0B7C-48CD-B21C-31981F85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CAAC4-EB0A-4CA0-9A3C-96A30CFC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83F85-FBF5-4C24-BE67-D97E08AD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F32B5-2921-4B0E-91D7-CC0C8B61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09EC6-3290-48DF-8BFF-169B4134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0A0DC-6228-474D-9330-EEFDE85D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7A27F-A915-437C-ADBF-0BF215F2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F79EF-7C61-4482-BA19-1BB0844E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C91-41E6-435E-9E83-A3A818D7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FE348-42AB-4523-B1D7-238C5D41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1FFE1-B824-4C57-B403-534272C8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66D5A-F6A8-402F-BCA6-3BADE94B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2FA2F-CC2E-4633-B5C0-37EE2742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8339A-3678-4F6F-9C42-0BD2132A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D974B-635F-49B6-8B4B-BC2C5669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6B68E-0B4B-422F-93C7-424D9343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804A4-625A-4A1B-BFA2-CF0DF8DB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DE6DD-932A-4C4E-84F1-FB6E4C43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FB19E-F3C8-439E-A335-6BAB7E7C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96E9-EBFA-4DC4-AAC7-CC416F0CFCE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F547-3A50-4BDF-83EC-8C42D07A30A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785F-589C-4799-B3F6-A9232ED76FE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94BF-2A75-4807-B053-1685DDF3BCB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436D-65D9-4E82-829D-08FFD721EEC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9538-07BE-43F6-8952-6B6501D30F8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56D2-7E9F-47D2-A2A6-AB1F47B970D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5EA1-F0EC-4323-9240-F458155D27B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E254-31B6-43FB-86F4-AFDBBD349A2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6891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Heat Transfer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Heat transfer by convection is caused by </a:t>
            </a:r>
            <a:r>
              <a:rPr b="1" lang="en-US" sz="3300" spc="-1" strike="noStrike" u="sng">
                <a:solidFill>
                  <a:srgbClr val="a5644e"/>
                </a:solidFill>
                <a:uFillTx/>
                <a:latin typeface="Franklin Gothic Book"/>
              </a:rPr>
              <a:t>differences of temperature and density within a fluid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a5644e"/>
                </a:solidFill>
                <a:uFillTx/>
                <a:latin typeface="Franklin Gothic Book"/>
              </a:rPr>
              <a:t>Density - </a:t>
            </a: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Is a measure of how much mass there is in a volume of a substance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Straight Connector 4"/>
          <p:cNvSpPr/>
          <p:nvPr/>
        </p:nvSpPr>
        <p:spPr>
          <a:xfrm flipH="1">
            <a:off x="3045960" y="1373040"/>
            <a:ext cx="3240" cy="5029200"/>
          </a:xfrm>
          <a:prstGeom prst="line">
            <a:avLst/>
          </a:prstGeom>
          <a:ln w="381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304920" y="1600200"/>
            <a:ext cx="259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17529"/>
                </a:solidFill>
                <a:latin typeface="Franklin Gothic Book"/>
              </a:rPr>
              <a:t>What causes conve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6"/>
          <p:cNvSpPr/>
          <p:nvPr/>
        </p:nvSpPr>
        <p:spPr>
          <a:xfrm>
            <a:off x="228600" y="44956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17529"/>
                </a:solidFill>
                <a:latin typeface="Franklin Gothic Book"/>
              </a:rPr>
              <a:t>What is dens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A constant flow begins as the cooler fluid continually sinks to the bottom of the pot and the warmer fluid rises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5644e"/>
                </a:solidFill>
                <a:uFillTx/>
                <a:latin typeface="Franklin Gothic Book"/>
              </a:rPr>
              <a:t> </a:t>
            </a:r>
            <a:r>
              <a:rPr b="1" lang="en-US" sz="3600" spc="-1" strike="noStrike" u="sng">
                <a:solidFill>
                  <a:srgbClr val="a5644e"/>
                </a:solidFill>
                <a:uFillTx/>
                <a:latin typeface="Franklin Gothic Book"/>
              </a:rPr>
              <a:t>Convection Current 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– is the flow that transfers heat within a fluid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Straight Connector 4"/>
          <p:cNvSpPr/>
          <p:nvPr/>
        </p:nvSpPr>
        <p:spPr>
          <a:xfrm flipH="1">
            <a:off x="3045960" y="1373040"/>
            <a:ext cx="3240" cy="5029200"/>
          </a:xfrm>
          <a:prstGeom prst="line">
            <a:avLst/>
          </a:prstGeom>
          <a:ln w="381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228600" y="426708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17529"/>
                </a:solidFill>
                <a:latin typeface="Franklin Gothic Book"/>
              </a:rPr>
              <a:t>What is a convection curr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51" name="Content Placeholder 6" descr="Convection.jpg"/>
          <p:cNvPicPr/>
          <p:nvPr/>
        </p:nvPicPr>
        <p:blipFill>
          <a:blip r:embed="rId2"/>
          <a:stretch/>
        </p:blipFill>
        <p:spPr>
          <a:xfrm>
            <a:off x="1295280" y="1295280"/>
            <a:ext cx="655344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The heating and cooling of the fluid, changes in the fluid’s density and the force of gravity combine to set convection currents in motion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Straight Connector 4"/>
          <p:cNvSpPr/>
          <p:nvPr/>
        </p:nvSpPr>
        <p:spPr>
          <a:xfrm flipH="1">
            <a:off x="3045960" y="1373040"/>
            <a:ext cx="3240" cy="5029200"/>
          </a:xfrm>
          <a:prstGeom prst="line">
            <a:avLst/>
          </a:prstGeom>
          <a:ln w="381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5"/>
          <p:cNvSpPr/>
          <p:nvPr/>
        </p:nvSpPr>
        <p:spPr>
          <a:xfrm>
            <a:off x="304920" y="1600200"/>
            <a:ext cx="259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17529"/>
                </a:solidFill>
                <a:latin typeface="Franklin Gothic Book"/>
              </a:rPr>
              <a:t>What sets convection currents in mo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Earth’s mantle responds to heat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Convection currents flow in the </a:t>
            </a:r>
            <a:r>
              <a:rPr b="1" lang="en-US" sz="3300" spc="-1" strike="noStrike" u="sng">
                <a:solidFill>
                  <a:srgbClr val="c17529"/>
                </a:solidFill>
                <a:uFillTx/>
                <a:latin typeface="Franklin Gothic Book"/>
              </a:rPr>
              <a:t>Asthenosphere</a:t>
            </a: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The heat source for these currents come from the </a:t>
            </a:r>
            <a:r>
              <a:rPr b="1" lang="en-US" sz="3300" spc="-1" strike="noStrike" u="sng">
                <a:solidFill>
                  <a:srgbClr val="c17529"/>
                </a:solidFill>
                <a:uFillTx/>
                <a:latin typeface="Franklin Gothic Book"/>
              </a:rPr>
              <a:t>Earth’s core and from the mantle itself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Straight Connector 4"/>
          <p:cNvSpPr/>
          <p:nvPr/>
        </p:nvSpPr>
        <p:spPr>
          <a:xfrm flipH="1">
            <a:off x="3045960" y="1373040"/>
            <a:ext cx="3240" cy="5029200"/>
          </a:xfrm>
          <a:prstGeom prst="line">
            <a:avLst/>
          </a:prstGeom>
          <a:ln w="381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5"/>
          <p:cNvSpPr/>
          <p:nvPr/>
        </p:nvSpPr>
        <p:spPr>
          <a:xfrm>
            <a:off x="304920" y="3048120"/>
            <a:ext cx="2590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17529"/>
                </a:solidFill>
                <a:latin typeface="Franklin Gothic Book"/>
              </a:rPr>
              <a:t>Where does the heat source for the Earth’s curren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61" name="Content Placeholder 4" descr="Convection currents in the mantle 2.jpg"/>
          <p:cNvPicPr/>
          <p:nvPr/>
        </p:nvPicPr>
        <p:blipFill>
          <a:blip r:embed="rId2"/>
          <a:stretch/>
        </p:blipFill>
        <p:spPr>
          <a:xfrm>
            <a:off x="2362320" y="2057400"/>
            <a:ext cx="40766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63" name="Content Placeholder 6" descr="Convection currents in the mantle.gif"/>
          <p:cNvPicPr/>
          <p:nvPr/>
        </p:nvPicPr>
        <p:blipFill>
          <a:blip r:embed="rId2"/>
          <a:stretch/>
        </p:blipFill>
        <p:spPr>
          <a:xfrm>
            <a:off x="914400" y="1828800"/>
            <a:ext cx="7234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Title 1" descr=""/>
          <p:cNvPicPr/>
          <p:nvPr/>
        </p:nvPicPr>
        <p:blipFill>
          <a:blip r:embed="rId1"/>
          <a:stretch/>
        </p:blipFill>
        <p:spPr>
          <a:xfrm>
            <a:off x="255600" y="384120"/>
            <a:ext cx="8894880" cy="1139760"/>
          </a:xfrm>
          <a:prstGeom prst="rect">
            <a:avLst/>
          </a:prstGeom>
          <a:ln w="0">
            <a:noFill/>
          </a:ln>
        </p:spPr>
      </p:pic>
      <p:pic>
        <p:nvPicPr>
          <p:cNvPr id="465" name="Convergent_and_Divergent_Plates__How_Earth_s_Inner_Structure_Affects_Its_Surface.asf" descr=""/>
          <p:cNvPicPr/>
          <p:nvPr/>
        </p:nvPicPr>
        <p:blipFill>
          <a:blip r:embed="rId2"/>
          <a:stretch/>
        </p:blipFill>
        <p:spPr>
          <a:xfrm>
            <a:off x="990720" y="1644480"/>
            <a:ext cx="7467480" cy="5092920"/>
          </a:xfrm>
          <a:prstGeom prst="rect">
            <a:avLst/>
          </a:prstGeom>
          <a:ln w="0">
            <a:noFill/>
          </a:ln>
        </p:spPr>
      </p:pic>
      <p:sp>
        <p:nvSpPr>
          <p:cNvPr id="466" name="TextBox 8"/>
          <p:cNvSpPr/>
          <p:nvPr/>
        </p:nvSpPr>
        <p:spPr>
          <a:xfrm>
            <a:off x="762120" y="106668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How Earth's Inner Structure Affects Its Su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Stuff to do: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4e3b30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mplete the Heat Transfer concept map on the back of your note pag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4e3b30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f you didn’t begin or finish the 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Earth’s interior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worksheet from yesterday pick it up from the red box and complete it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4e3b30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nce you have finished 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Earth’s interior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, pick up a 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What’s happening during convection?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Worksheet.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4f2d"/>
                </a:solidFill>
                <a:latin typeface="Franklin Gothic Book"/>
              </a:rPr>
              <a:t>DO NOT WRITE ON THESE WORKSHEETS!!!! ALL YOUR WORK MUST BE DONE IN YOUR SCIENCE NOTEBOOK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arth’s molten outer core is nearly as hot as the surface of the su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eat is transferred from the core to the surface of the Earth through liquids and solid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Straight Connector 4"/>
          <p:cNvSpPr/>
          <p:nvPr/>
        </p:nvSpPr>
        <p:spPr>
          <a:xfrm flipH="1">
            <a:off x="3045960" y="1373040"/>
            <a:ext cx="3240" cy="5029200"/>
          </a:xfrm>
          <a:prstGeom prst="line">
            <a:avLst/>
          </a:prstGeom>
          <a:ln w="381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8</a:t>
            </a:r>
            <a:r>
              <a:rPr b="0" lang="en-US" sz="3600" spc="-1" strike="noStrike" baseline="30000">
                <a:solidFill>
                  <a:srgbClr val="4e3b30"/>
                </a:solidFill>
                <a:latin typeface="Franklin Gothic Medium"/>
              </a:rPr>
              <a:t>th</a:t>
            </a: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 Grade Exit Slip 09/14/10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nswer the following question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907920" indent="-436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5644e"/>
                </a:solidFill>
                <a:latin typeface="Franklin Gothic Book"/>
              </a:rPr>
              <a:t>What are the three types of heat transfer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Heat Transfer – </a:t>
            </a:r>
            <a:r>
              <a:rPr b="1" lang="en-US" sz="4400" spc="-1" strike="noStrike" u="sng">
                <a:solidFill>
                  <a:srgbClr val="c17529"/>
                </a:solidFill>
                <a:uFillTx/>
                <a:latin typeface="Franklin Gothic Book"/>
              </a:rPr>
              <a:t>is the movement of energy from a warmer object to a cooler object.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Straight Connector 3"/>
          <p:cNvSpPr/>
          <p:nvPr/>
        </p:nvSpPr>
        <p:spPr>
          <a:xfrm flipH="1">
            <a:off x="3045960" y="1373040"/>
            <a:ext cx="3240" cy="5029200"/>
          </a:xfrm>
          <a:prstGeom prst="line">
            <a:avLst/>
          </a:prstGeom>
          <a:ln w="381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4"/>
          <p:cNvSpPr/>
          <p:nvPr/>
        </p:nvSpPr>
        <p:spPr>
          <a:xfrm>
            <a:off x="304920" y="19051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17529"/>
                </a:solidFill>
                <a:latin typeface="Franklin Gothic Book"/>
              </a:rPr>
              <a:t>What heat transf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There are three types of heat transfer: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17529"/>
                </a:solidFill>
                <a:uFillTx/>
                <a:latin typeface="Franklin Gothic Book"/>
              </a:rPr>
              <a:t>Radiation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17529"/>
                </a:solidFill>
                <a:uFillTx/>
                <a:latin typeface="Franklin Gothic Book"/>
              </a:rPr>
              <a:t>Conduction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17529"/>
                </a:solidFill>
                <a:uFillTx/>
                <a:latin typeface="Franklin Gothic Book"/>
              </a:rPr>
              <a:t>Convection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Straight Connector 3"/>
          <p:cNvSpPr/>
          <p:nvPr/>
        </p:nvSpPr>
        <p:spPr>
          <a:xfrm flipH="1">
            <a:off x="3045960" y="1373040"/>
            <a:ext cx="3240" cy="5029200"/>
          </a:xfrm>
          <a:prstGeom prst="line">
            <a:avLst/>
          </a:prstGeom>
          <a:ln w="381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4"/>
          <p:cNvSpPr/>
          <p:nvPr/>
        </p:nvSpPr>
        <p:spPr>
          <a:xfrm>
            <a:off x="304920" y="1600200"/>
            <a:ext cx="259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17529"/>
                </a:solidFill>
                <a:latin typeface="Franklin Gothic Book"/>
              </a:rPr>
              <a:t>What are the types of heat transf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Radiation</a:t>
            </a:r>
            <a:r>
              <a:rPr b="1" lang="en-US" sz="4000" spc="-1" strike="noStrike" u="sng">
                <a:solidFill>
                  <a:srgbClr val="c17529"/>
                </a:solidFill>
                <a:uFillTx/>
                <a:latin typeface="Franklin Gothic Book"/>
              </a:rPr>
              <a:t>: is the transfer of energy through empty space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Straight Connector 3"/>
          <p:cNvSpPr/>
          <p:nvPr/>
        </p:nvSpPr>
        <p:spPr>
          <a:xfrm flipH="1">
            <a:off x="3045960" y="1373040"/>
            <a:ext cx="3240" cy="5029200"/>
          </a:xfrm>
          <a:prstGeom prst="line">
            <a:avLst/>
          </a:prstGeom>
          <a:ln w="381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4"/>
          <p:cNvSpPr/>
          <p:nvPr/>
        </p:nvSpPr>
        <p:spPr>
          <a:xfrm>
            <a:off x="304920" y="160020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17529"/>
                </a:solidFill>
                <a:latin typeface="Franklin Gothic Book"/>
              </a:rPr>
              <a:t>What is radi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560" y="1295280"/>
            <a:ext cx="8381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e3b30"/>
                </a:solidFill>
                <a:latin typeface="Franklin Gothic Book"/>
              </a:rPr>
              <a:t>Example: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5644e"/>
                </a:solidFill>
                <a:latin typeface="Franklin Gothic Book"/>
              </a:rPr>
              <a:t>Sunlight is radiation that warms the Earth’s surfac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5644e"/>
                </a:solidFill>
                <a:latin typeface="Franklin Gothic Book"/>
              </a:rPr>
              <a:t>Heat you feel from around an open flame or fir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3" descr="Radiation.bmp"/>
          <p:cNvPicPr/>
          <p:nvPr/>
        </p:nvPicPr>
        <p:blipFill>
          <a:blip r:embed="rId2"/>
          <a:stretch/>
        </p:blipFill>
        <p:spPr>
          <a:xfrm>
            <a:off x="533520" y="3124080"/>
            <a:ext cx="3124080" cy="20480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heat-transmittance-means2.jpg"/>
          <p:cNvPicPr/>
          <p:nvPr/>
        </p:nvPicPr>
        <p:blipFill>
          <a:blip r:embed="rId3"/>
          <a:srcRect l="5821" t="62701" r="12727" b="0"/>
          <a:stretch/>
        </p:blipFill>
        <p:spPr>
          <a:xfrm>
            <a:off x="4343400" y="5029200"/>
            <a:ext cx="4267080" cy="1362240"/>
          </a:xfrm>
          <a:prstGeom prst="rect">
            <a:avLst/>
          </a:prstGeom>
          <a:ln w="0">
            <a:noFill/>
          </a:ln>
        </p:spPr>
      </p:pic>
      <p:sp>
        <p:nvSpPr>
          <p:cNvPr id="427" name="TextBox 5"/>
          <p:cNvSpPr/>
          <p:nvPr/>
        </p:nvSpPr>
        <p:spPr>
          <a:xfrm>
            <a:off x="1600200" y="4724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Conduction</a:t>
            </a:r>
            <a:r>
              <a:rPr b="1" lang="en-US" sz="4000" spc="-1" strike="noStrike" u="sng">
                <a:solidFill>
                  <a:srgbClr val="c17529"/>
                </a:solidFill>
                <a:uFillTx/>
                <a:latin typeface="Franklin Gothic Book"/>
              </a:rPr>
              <a:t>: is heat transfer by direct contact of particles of matter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Straight Connector 4"/>
          <p:cNvSpPr/>
          <p:nvPr/>
        </p:nvSpPr>
        <p:spPr>
          <a:xfrm flipH="1">
            <a:off x="3045960" y="1373040"/>
            <a:ext cx="3240" cy="5029200"/>
          </a:xfrm>
          <a:prstGeom prst="line">
            <a:avLst/>
          </a:prstGeom>
          <a:ln w="381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5"/>
          <p:cNvSpPr/>
          <p:nvPr/>
        </p:nvSpPr>
        <p:spPr>
          <a:xfrm>
            <a:off x="304920" y="1600200"/>
            <a:ext cx="25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17529"/>
                </a:solidFill>
                <a:latin typeface="Franklin Gothic Book"/>
              </a:rPr>
              <a:t>What is cond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228240" y="1600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Example: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a5644e"/>
                </a:solidFill>
                <a:latin typeface="Franklin Gothic Book"/>
              </a:rPr>
              <a:t>Heat is transferred from the hot soup and the pot to the particles that make up the spoon.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4" name="Picture 3" descr="Conduction.gif"/>
          <p:cNvPicPr/>
          <p:nvPr/>
        </p:nvPicPr>
        <p:blipFill>
          <a:blip r:embed="rId2"/>
          <a:stretch/>
        </p:blipFill>
        <p:spPr>
          <a:xfrm>
            <a:off x="2971800" y="3048120"/>
            <a:ext cx="4800600" cy="3589200"/>
          </a:xfrm>
          <a:prstGeom prst="rect">
            <a:avLst/>
          </a:prstGeom>
          <a:ln w="0">
            <a:noFill/>
          </a:ln>
        </p:spPr>
      </p:pic>
      <p:cxnSp>
        <p:nvCxnSpPr>
          <p:cNvPr id="435" name="Straight Arrow Connector 7"/>
          <p:cNvCxnSpPr/>
          <p:nvPr/>
        </p:nvCxnSpPr>
        <p:spPr>
          <a:xfrm>
            <a:off x="2133360" y="4038120"/>
            <a:ext cx="152460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6" name="TextBox 8"/>
          <p:cNvSpPr/>
          <p:nvPr/>
        </p:nvSpPr>
        <p:spPr>
          <a:xfrm>
            <a:off x="457200" y="3657600"/>
            <a:ext cx="160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Heat transferred to the particles of the spoon from the pot and ho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Convection</a:t>
            </a:r>
            <a:r>
              <a:rPr b="0" lang="en-US" sz="3300" spc="-1" strike="noStrike">
                <a:solidFill>
                  <a:srgbClr val="a5644e"/>
                </a:solidFill>
                <a:latin typeface="Franklin Gothic Book"/>
              </a:rPr>
              <a:t>: </a:t>
            </a:r>
            <a:r>
              <a:rPr b="1" lang="en-US" sz="3300" spc="-1" strike="noStrike" u="sng">
                <a:solidFill>
                  <a:srgbClr val="c17529"/>
                </a:solidFill>
                <a:uFillTx/>
                <a:latin typeface="Franklin Gothic Book"/>
              </a:rPr>
              <a:t>is</a:t>
            </a:r>
            <a:r>
              <a:rPr b="1" lang="en-US" sz="3300" spc="-1" strike="noStrike" u="sng">
                <a:solidFill>
                  <a:srgbClr val="a5644e"/>
                </a:solidFill>
                <a:uFillTx/>
                <a:latin typeface="Franklin Gothic Book"/>
              </a:rPr>
              <a:t> </a:t>
            </a:r>
            <a:r>
              <a:rPr b="1" lang="en-US" sz="3300" spc="-1" strike="noStrike" u="sng">
                <a:solidFill>
                  <a:srgbClr val="c17529"/>
                </a:solidFill>
                <a:uFillTx/>
                <a:latin typeface="Franklin Gothic Book"/>
              </a:rPr>
              <a:t>heat transfer by the movement of a heated fluid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During convection heated particles of fluid begin to flow.  Transferring heat energy from one part of the fluid to another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Straight Connector 4"/>
          <p:cNvSpPr/>
          <p:nvPr/>
        </p:nvSpPr>
        <p:spPr>
          <a:xfrm flipH="1">
            <a:off x="3045960" y="1373040"/>
            <a:ext cx="3240" cy="5029200"/>
          </a:xfrm>
          <a:prstGeom prst="line">
            <a:avLst/>
          </a:prstGeom>
          <a:ln w="381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5"/>
          <p:cNvSpPr/>
          <p:nvPr/>
        </p:nvSpPr>
        <p:spPr>
          <a:xfrm>
            <a:off x="380880" y="152388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17529"/>
                </a:solidFill>
                <a:latin typeface="Franklin Gothic Book"/>
              </a:rPr>
              <a:t>What is conve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01:27:09Z</dcterms:created>
  <dc:creator>Megan Braman</dc:creator>
  <dc:description/>
  <dc:language>en-US</dc:language>
  <cp:lastModifiedBy>Gina</cp:lastModifiedBy>
  <dcterms:modified xsi:type="dcterms:W3CDTF">2010-11-18T14:01:28Z</dcterms:modified>
  <cp:revision>27</cp:revision>
  <dc:subject/>
  <dc:title>Convection Currents and the Mantle</dc:title>
</cp:coreProperties>
</file>